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BFC-D5AB-49E6-978F-82FD2E25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8280" y="-360"/>
            <a:ext cx="6081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C59B-5D81-400A-B31E-802F1EAC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38280" y="-360"/>
            <a:ext cx="6081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E13-EE7B-482F-B4C5-2CFAAB76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38280" y="-360"/>
            <a:ext cx="6081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8BE0-A7D7-4DCC-86D3-DC725A94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1C4E-32A3-4708-ADDB-C4DADF55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8280" y="-360"/>
            <a:ext cx="6081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ACD9-4626-43C4-A55C-5F3C2781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38280" y="-360"/>
            <a:ext cx="6081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7CF3-251E-4CB4-BF2F-E353EC8A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-360"/>
            <a:ext cx="6081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4CD2-3FB2-4B29-9267-6D84C8B0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8280" y="-360"/>
            <a:ext cx="6081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5962-8BA0-4FD3-91DB-5A1DAC76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38280" y="-360"/>
            <a:ext cx="6081840" cy="65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56E2-176B-486E-A5B4-92EA295C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8280" y="-360"/>
            <a:ext cx="6081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A6A3-66D0-4299-A13E-C9139DC1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8280" y="-360"/>
            <a:ext cx="6081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E8C-F9CC-44AA-9864-FA18683D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8280" y="-360"/>
            <a:ext cx="6081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BA0F-7E44-4DE2-85B3-5C0C0BC1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38280" y="-360"/>
            <a:ext cx="6081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B2BA-0B58-4E59-9D0B-7223861F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8280" y="-360"/>
            <a:ext cx="6081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E345-D32A-4B0A-8604-6E695B66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38280" y="-360"/>
            <a:ext cx="6081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E35C-DA7F-4B72-84FD-3EE1A4AA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38280" y="-360"/>
            <a:ext cx="6081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21AE-877C-4B17-BFB7-3120E9D1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38280" y="-360"/>
            <a:ext cx="6081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DDB-E2AC-40BC-BD06-A525ACBB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8280" y="-360"/>
            <a:ext cx="6081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5EBE-9884-4C12-B7FF-AF36BD30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38280" y="-360"/>
            <a:ext cx="6081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BF97-38A3-438C-922A-B9CFCE9A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38280" y="-360"/>
            <a:ext cx="6081840" cy="65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4F5-375B-4633-A98A-4D44D0A5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8280" y="-360"/>
            <a:ext cx="6081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30DF-CB34-46C7-B075-3394EFAD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8280" y="-360"/>
            <a:ext cx="6081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46D-4ABD-4D9A-9B59-C541B03C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8280" y="-360"/>
            <a:ext cx="6081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E93-A033-4D2F-BFFA-95FE07FF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99072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0948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38280" y="-360"/>
            <a:ext cx="6081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563868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400" spc="-1" strike="noStrike">
                <a:solidFill>
                  <a:srgbClr val="3366ff"/>
                </a:solidFill>
                <a:latin typeface="Bookman Old Style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81C1-DEA2-44C2-A043-609FAB66A858}" type="slidenum">
              <a:rPr b="1" i="1" lang="pt-BR" sz="1400" spc="-1" strike="noStrike">
                <a:solidFill>
                  <a:srgbClr val="3366ff"/>
                </a:solidFill>
                <a:latin typeface="Bookman Old Style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10"/>
          <a:stretch/>
        </p:blipFill>
        <p:spPr>
          <a:xfrm>
            <a:off x="947880" y="152280"/>
            <a:ext cx="500040" cy="685800"/>
          </a:xfrm>
          <a:prstGeom prst="rect">
            <a:avLst/>
          </a:prstGeom>
          <a:ln w="0">
            <a:noFill/>
          </a:ln>
        </p:spPr>
      </p:pic>
      <p:pic>
        <p:nvPicPr>
          <p:cNvPr id="9" name="bottom_logo" descr=""/>
          <p:cNvPicPr/>
          <p:nvPr/>
        </p:nvPicPr>
        <p:blipFill>
          <a:blip r:embed="rId11"/>
          <a:stretch/>
        </p:blipFill>
        <p:spPr>
          <a:xfrm>
            <a:off x="7381800" y="152280"/>
            <a:ext cx="1609920" cy="41760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6073200" y="6095880"/>
            <a:ext cx="27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3366ff"/>
                </a:solidFill>
                <a:latin typeface="Bookman Old Style"/>
                <a:ea typeface="Times New Roman"/>
              </a:rPr>
              <a:t>WAGE Consult. </a:t>
            </a:r>
            <a:r>
              <a:rPr b="1" i="1" lang="en-US" sz="1400" spc="-1" strike="noStrike">
                <a:solidFill>
                  <a:srgbClr val="3366ff"/>
                </a:solidFill>
                <a:latin typeface="Bookman Old Style"/>
                <a:ea typeface="Times New Roman"/>
              </a:rPr>
              <a:t>Eng. Serv. Ltda.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8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14800"/>
            <a:ext cx="777240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EF68-4B90-4E0A-B846-AD008D1EEB50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8280" y="152280"/>
            <a:ext cx="6081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                           </a:t>
            </a: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WORKSHOP ESC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1874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1951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293840"/>
            <a:ext cx="563868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00cc"/>
                </a:solidFill>
                <a:latin typeface="Bookman Old Style"/>
              </a:rPr>
              <a:t>WORKSHO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00cc"/>
                </a:solidFill>
                <a:latin typeface="Bookman Old Style"/>
              </a:rPr>
              <a:t>EFICIENTIZAÇÃO ENERGÉTICA DE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00cc"/>
                </a:solidFill>
                <a:latin typeface="Bookman Old Style"/>
              </a:rPr>
              <a:t>PRÉDIOS PÚBLIC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66680" y="1874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1951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1143000"/>
            <a:ext cx="77724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DIFICUL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Decreto 3.789</a:t>
            </a:r>
            <a:r>
              <a:rPr b="0" lang="pt-BR" sz="2400" spc="-1" strike="noStrike">
                <a:solidFill>
                  <a:srgbClr val="0000cc"/>
                </a:solidFill>
                <a:latin typeface="Bookman Old Style"/>
              </a:rPr>
              <a:t>, de18/04/01, revoga art. 5.o do dec. 3.33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Decreto 3.818</a:t>
            </a:r>
            <a:r>
              <a:rPr b="0" lang="pt-BR" sz="2400" spc="-1" strike="noStrike">
                <a:solidFill>
                  <a:srgbClr val="0000cc"/>
                </a:solidFill>
                <a:latin typeface="Bookman Old Style"/>
              </a:rPr>
              <a:t>,  revoga Dec. 3.330 e </a:t>
            </a:r>
            <a:r>
              <a:rPr b="0" lang="pt-BR" sz="2400" spc="-1" strike="noStrike">
                <a:solidFill>
                  <a:srgbClr val="0000cc"/>
                </a:solidFill>
                <a:latin typeface="Bookman Old Style"/>
                <a:ea typeface="Times New Roman"/>
              </a:rPr>
              <a:t>dispõe sobre medidas emergenciais de redução de energia elétrica, no âmbito da Administração Pública Federal</a:t>
            </a:r>
            <a:r>
              <a:rPr b="0" lang="pt-BR" sz="2400" spc="-1" strike="noStrike">
                <a:solidFill>
                  <a:srgbClr val="0000cc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Bookman Old Style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“</a:t>
            </a: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art. 2</a:t>
            </a:r>
            <a:r>
              <a:rPr b="0" lang="pt-BR" sz="2400" spc="-1" strike="noStrike">
                <a:solidFill>
                  <a:srgbClr val="0000cc"/>
                </a:solidFill>
                <a:latin typeface="Bookman Old Style"/>
                <a:ea typeface="Times New Roman"/>
              </a:rPr>
              <a:t>º - Os órgãos e entidades da Administração Pública Federal deverão diagnosticar o grau de eficiência energética dos imóveis de sua administração, com vistas à identificação de soluções e à elaboração de projeto de redução do consumo de energia elétrica.</a:t>
            </a:r>
            <a:r>
              <a:rPr b="1" lang="pt-BR" sz="2400" spc="-1" strike="noStrike">
                <a:solidFill>
                  <a:srgbClr val="0000cc"/>
                </a:solidFill>
                <a:latin typeface="Bookman Old Style"/>
                <a:ea typeface="Times New Roman"/>
              </a:rPr>
              <a:t>”</a:t>
            </a:r>
            <a:r>
              <a:rPr b="0" lang="pt-BR" sz="2400" spc="-1" strike="noStrike">
                <a:solidFill>
                  <a:srgbClr val="0000cc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66680" y="1874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951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1371600"/>
            <a:ext cx="7772400" cy="45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DIFICUL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Previsões orçamentári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0000cc"/>
                </a:solidFill>
                <a:latin typeface="Bookman Old Style"/>
                <a:ea typeface="Times New Roman"/>
              </a:rPr>
              <a:t>O serviço de eficientização energética, incluindo a aquisição de materiais e equipamentos, de um prédio público é classificado na orçamento público como investimento. Não existe atualmente dispositivo que permita fazer o remanejamento do orçamento da conta de despesa (como aquela prevista para cobrir os gastos com o pagamento da energia elétrica) para conta de investimento (como aquela que dará cobertura ao pagamento à ESCO, pela realização de seu serviço e aquisição de materiais / equipamento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6680" y="1874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951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1219320"/>
            <a:ext cx="777240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DIFICUL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Obtenção de financi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cc"/>
                </a:solidFill>
                <a:latin typeface="Bookman Old Style"/>
                <a:ea typeface="Times New Roman"/>
              </a:rPr>
              <a:t>As ESCO’s deverão arcar com todo o investimento da realização da EE, incluindo a aquisição dos materiais e equipamentos, para somente serem ressarcidas destes custos, quando terminarem a implantação do projeto, por um período bastante longo. Isto exigirá das ESCO’s a obtenção de</a:t>
            </a:r>
            <a:r>
              <a:rPr b="0" lang="pt-BR" sz="2200" spc="-1" strike="noStrike">
                <a:solidFill>
                  <a:srgbClr val="0000cc"/>
                </a:solidFill>
                <a:latin typeface="TimesNewRoman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cc"/>
                </a:solidFill>
                <a:latin typeface="Bookman Old Style"/>
                <a:ea typeface="Times New Roman"/>
              </a:rPr>
              <a:t>financiamento</a:t>
            </a:r>
            <a:r>
              <a:rPr b="0" lang="pt-BR" sz="2200" spc="-1" strike="noStrike">
                <a:solidFill>
                  <a:srgbClr val="0000cc"/>
                </a:solidFill>
                <a:latin typeface="TimesNewRoman"/>
                <a:ea typeface="Times New Roman"/>
              </a:rPr>
              <a:t> e </a:t>
            </a:r>
            <a:r>
              <a:rPr b="0" lang="pt-BR" sz="2200" spc="-1" strike="noStrike">
                <a:solidFill>
                  <a:srgbClr val="0000cc"/>
                </a:solidFill>
                <a:latin typeface="Bookman Old Style"/>
                <a:ea typeface="Times New Roman"/>
              </a:rPr>
              <a:t>conseqüentemente</a:t>
            </a:r>
            <a:r>
              <a:rPr b="0" lang="pt-BR" sz="2200" spc="-1" strike="noStrike">
                <a:solidFill>
                  <a:srgbClr val="0000cc"/>
                </a:solidFill>
                <a:latin typeface="TimesNewRoman"/>
                <a:ea typeface="Times New Roman"/>
              </a:rPr>
              <a:t> a </a:t>
            </a:r>
            <a:r>
              <a:rPr b="0" lang="pt-BR" sz="2200" spc="-1" strike="noStrike">
                <a:solidFill>
                  <a:srgbClr val="0000cc"/>
                </a:solidFill>
                <a:latin typeface="Bookman Old Style"/>
                <a:ea typeface="Times New Roman"/>
              </a:rPr>
              <a:t>necessidade</a:t>
            </a:r>
            <a:r>
              <a:rPr b="0" lang="pt-BR" sz="2200" spc="-1" strike="noStrike">
                <a:solidFill>
                  <a:srgbClr val="0000cc"/>
                </a:solidFill>
                <a:latin typeface="TimesNewRoman"/>
                <a:ea typeface="Times New Roman"/>
              </a:rPr>
              <a:t> de </a:t>
            </a:r>
            <a:r>
              <a:rPr b="0" lang="pt-BR" sz="2200" spc="-1" strike="noStrike">
                <a:solidFill>
                  <a:srgbClr val="0000cc"/>
                </a:solidFill>
                <a:latin typeface="Bookman Old Style"/>
                <a:ea typeface="Times New Roman"/>
              </a:rPr>
              <a:t>apresentarem garantias que dêem cobertura a este financiamen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cc"/>
                </a:solidFill>
                <a:latin typeface="Bookman Old Style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cc"/>
                </a:solidFill>
                <a:latin typeface="Bookman Old Style"/>
                <a:ea typeface="Times New Roman"/>
              </a:rPr>
              <a:t>As ESCO’s são empresas de pequeno porte, que não possuem patrimônio suficiente para fazer face as garantias exigidas pelas instituições financeir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1874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1951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1371600"/>
            <a:ext cx="678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Bookman Old Style"/>
              </a:rPr>
              <a:t>CONDIÇÕES CONTRATU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Bookman Old Style"/>
              </a:rPr>
              <a:t>Condições Necessá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Bookman Old Style"/>
              </a:rPr>
              <a:t>Aquelas  definidas na lei 8.666/93 e suas alterações (Art. 5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Bookman Old Style"/>
              </a:rPr>
              <a:t>Condiçõ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Bookman Old Style"/>
              </a:rPr>
              <a:t>Aquelas que definem os itens específicos da EE, e que regerão o relacionamento entre as par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66680" y="1874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1951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143000"/>
            <a:ext cx="678168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Bookman Old Style"/>
              </a:rPr>
              <a:t>CONDIÇÕES NECESSÁ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Bookman Old Style"/>
              </a:rPr>
              <a:t>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Bookman Old Style"/>
              </a:rPr>
              <a:t>Regime de exec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Bookman Old Style"/>
              </a:rPr>
              <a:t>Pre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Bookman Old Style"/>
              </a:rPr>
              <a:t>Praz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Bookman Old Style"/>
              </a:rPr>
              <a:t>Recursos financei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Bookman Old Style"/>
              </a:rPr>
              <a:t>Garant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Bookman Old Style"/>
              </a:rPr>
              <a:t>Direitos e responsa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Bookman Old Style"/>
              </a:rPr>
              <a:t>Rescisão </a:t>
            </a:r>
            <a:r>
              <a:rPr b="0" lang="pt-BR" sz="20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Bookman Old Style"/>
              </a:rPr>
              <a:t>Vinculação ao Edital de Lici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Bookman Old Style"/>
              </a:rPr>
              <a:t>Legislação aplicável à execução do cont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Bookman Old Style"/>
              </a:rPr>
              <a:t>Obrigação do contratado manter, durante a vigência do contrato, as condições de habilitaç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66680" y="1874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951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1420920"/>
            <a:ext cx="7086600" cy="38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Bookman Old Style"/>
              </a:rPr>
              <a:t>CONDIÇÕ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ff"/>
                </a:solidFill>
                <a:latin typeface="Bookman Old Style"/>
              </a:rPr>
              <a:t>Aquisição de equipa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ff"/>
                </a:solidFill>
                <a:latin typeface="Bookman Old Style"/>
              </a:rPr>
              <a:t>Treinamento oper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ff"/>
                </a:solidFill>
                <a:latin typeface="Bookman Old Style"/>
              </a:rPr>
              <a:t>Condições de medição e verificaç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ff"/>
                </a:solidFill>
                <a:latin typeface="Bookman Old Style"/>
              </a:rPr>
              <a:t>Condições de monitora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ff"/>
                </a:solidFill>
                <a:latin typeface="Bookman Old Style"/>
              </a:rPr>
              <a:t>Condições de pagament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ff"/>
                </a:solidFill>
                <a:latin typeface="Bookman Old Style"/>
              </a:rPr>
              <a:t>Condições de financiamento do empreendi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ff"/>
                </a:solidFill>
                <a:latin typeface="Bookman Old Style"/>
              </a:rPr>
              <a:t>Imprevistos ocorridos e seus responsáve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38280" y="152280"/>
            <a:ext cx="6081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  </a:t>
            </a: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WORKSHOP ESC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1874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951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2484360"/>
            <a:ext cx="678168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cc"/>
                </a:solidFill>
                <a:latin typeface="Bookman Old Style"/>
              </a:rPr>
              <a:t>“</a:t>
            </a:r>
            <a:r>
              <a:rPr b="1" lang="pt-BR" sz="4000" spc="-1" strike="noStrike">
                <a:solidFill>
                  <a:srgbClr val="0000cc"/>
                </a:solidFill>
                <a:latin typeface="Bookman Old Style"/>
              </a:rPr>
              <a:t>F I M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8280" y="152280"/>
            <a:ext cx="6081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WORKSHOP ESC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874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951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1828800"/>
            <a:ext cx="754380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 </a:t>
            </a: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 </a:t>
            </a: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REQUISITOS PARA AGENTES PÚBLICOS CONTRATAREM SERVIÇOS DE  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 </a:t>
            </a: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DOCUMENTOS CONTRATU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CONDIÇÕES CONTRATU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8280" y="152280"/>
            <a:ext cx="6081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WORKSHOP ESC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1874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951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606680"/>
            <a:ext cx="7238880" cy="41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cc"/>
                </a:solidFill>
                <a:latin typeface="Bookman Old Style"/>
                <a:ea typeface="Times New Roman"/>
              </a:rPr>
              <a:t>Um processo de Eficientização Energética – EE,  deve ter condições, que evitem a proposição de um preço final excessivo para os serviços, alem de darem cobertura, com segurança, a eventuais  incertezas e viabilizarem o contrato, não apenas para a ESCO,  mas também para o Agente Públ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38280" y="151560"/>
            <a:ext cx="6081840" cy="9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WORKSHOP ESCO</a:t>
            </a:r>
            <a:br>
              <a:rPr sz="1600"/>
            </a:br>
            <a:r>
              <a:rPr b="1" lang="pt-BR" sz="1400" spc="-1" strike="noStrike">
                <a:solidFill>
                  <a:srgbClr val="0000cc"/>
                </a:solidFill>
                <a:latin typeface="Bookman Old Style"/>
              </a:rPr>
              <a:t>REQUISITOS PARA AGENTES PÚBLICOS CONTRATAREM SERVIÇOS DE  EE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1951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1812960"/>
            <a:ext cx="678168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PRÉ REQUISIT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REALIZAR PROCESSO DE LICITAÇÃO DO TIPO TÉCNICA E PRE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38280" y="152280"/>
            <a:ext cx="6081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WORKSHOP ESC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1874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1951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1143000"/>
            <a:ext cx="6781680" cy="52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PROCESSO DE LICI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AVISO       AMPLA DIVULG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ED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Bookman Old Style"/>
              </a:rPr>
              <a:t>Descrição do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Bookman Old Style"/>
              </a:rPr>
              <a:t>Data, horário e local da lici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Bookman Old Style"/>
              </a:rPr>
              <a:t>Fundamento legal, tipo de licitação e regime de contra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Bookman Old Style"/>
              </a:rPr>
              <a:t>Definição do tipo de particip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Bookman Old Style"/>
              </a:rPr>
              <a:t>Forma de apresentação dos Doc. de Habilit. e das Propostas Técnica e de 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Bookman Old Style"/>
              </a:rPr>
              <a:t>Critérios de julgamento da Habilitação e das Propostas Técnica e de 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Bookman Old Style"/>
              </a:rPr>
              <a:t>Condições técnicas, comerciais e financeiras de contra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Bookman Old Style"/>
              </a:rPr>
              <a:t>Praz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Bookman Old Style"/>
              </a:rPr>
              <a:t>Fonte de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Bookman Old Style"/>
              </a:rPr>
              <a:t>Impugnação e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1814400"/>
            <a:ext cx="519120" cy="152640"/>
          </a:xfrm>
          <a:prstGeom prst="rightArrow">
            <a:avLst>
              <a:gd name="adj1" fmla="val 50000"/>
              <a:gd name="adj2" fmla="val 8502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8280" y="152280"/>
            <a:ext cx="6081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WORKSHOP ESC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1874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1951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1752480"/>
            <a:ext cx="67816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CONDIÇÃO DE PARTICIP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Empresas Isol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Empresa em Consó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Condição mix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8280" y="152280"/>
            <a:ext cx="6081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          </a:t>
            </a: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WORKSHOP ESC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1874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951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1676520"/>
            <a:ext cx="67816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CONDIÇÕES DE PONTU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cc"/>
                </a:solidFill>
                <a:latin typeface="Bookman Old Style"/>
              </a:rPr>
              <a:t> </a:t>
            </a:r>
            <a:r>
              <a:rPr b="1" lang="pt-BR" sz="2200" spc="-1" strike="noStrike">
                <a:solidFill>
                  <a:srgbClr val="0000cc"/>
                </a:solidFill>
                <a:latin typeface="Bookman Old Style"/>
              </a:rPr>
              <a:t>PONTUAÇÃO TÉCN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cc"/>
                </a:solidFill>
                <a:latin typeface="Bookman Old Style"/>
              </a:rPr>
              <a:t>Atestados de elaboração de estudos e  de execução de serviços similare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cc"/>
                </a:solidFill>
                <a:latin typeface="Bookman Old Style"/>
              </a:rPr>
              <a:t>Equipe técnic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cc"/>
                </a:solidFill>
                <a:latin typeface="Bookman Old Style"/>
              </a:rPr>
              <a:t>Plano de trabalh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cc"/>
                </a:solidFill>
                <a:latin typeface="Bookman Old Style"/>
              </a:rPr>
              <a:t>Cronogram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cc"/>
                </a:solidFill>
                <a:latin typeface="Bookman Old Style"/>
              </a:rPr>
              <a:t>Fluxograma das atividad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8280" y="152280"/>
            <a:ext cx="6081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           </a:t>
            </a: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	</a:t>
            </a: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 </a:t>
            </a:r>
            <a:r>
              <a:rPr b="1" lang="pt-BR" sz="1600" spc="-1" strike="noStrike">
                <a:solidFill>
                  <a:srgbClr val="0033cc"/>
                </a:solidFill>
                <a:latin typeface="Bookman Old Style"/>
              </a:rPr>
              <a:t>WORKSHOP ESC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874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1951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679400"/>
            <a:ext cx="678168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CONDIÇÕES DE PONTU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cc"/>
                </a:solidFill>
                <a:latin typeface="Bookman Old Style"/>
              </a:rPr>
              <a:t> </a:t>
            </a:r>
            <a:r>
              <a:rPr b="1" lang="pt-BR" sz="2200" spc="-1" strike="noStrike">
                <a:solidFill>
                  <a:srgbClr val="0000cc"/>
                </a:solidFill>
                <a:latin typeface="Bookman Old Style"/>
              </a:rPr>
              <a:t>PONTUAÇÃO DE PREÇ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cc"/>
                </a:solidFill>
                <a:latin typeface="Bookman Old Style"/>
              </a:rPr>
              <a:t>Economia efetiva nos gastos com energia elétric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cc"/>
                </a:solidFill>
                <a:latin typeface="Bookman Old Style"/>
              </a:rPr>
              <a:t>Valor dos ativos a serem aplicados na E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cc"/>
                </a:solidFill>
                <a:latin typeface="Bookman Old Style"/>
              </a:rPr>
              <a:t>Valor da operação e manutençã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66680" y="1874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1951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143000"/>
            <a:ext cx="7848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DIFICUL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Decreto 3.330</a:t>
            </a:r>
            <a:r>
              <a:rPr b="0" lang="pt-BR" sz="2400" spc="-1" strike="noStrike">
                <a:solidFill>
                  <a:srgbClr val="0000cc"/>
                </a:solidFill>
                <a:latin typeface="Bookman Old Style"/>
              </a:rPr>
              <a:t>, de 06/01/00, em seus art.   4o. e 5o., dispunh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Bookman Old Style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“</a:t>
            </a: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art. 4o</a:t>
            </a:r>
            <a:r>
              <a:rPr b="0" lang="pt-BR" sz="2400" spc="-1" strike="noStrike">
                <a:solidFill>
                  <a:srgbClr val="0000cc"/>
                </a:solidFill>
                <a:latin typeface="Bookman Old Style"/>
              </a:rPr>
              <a:t>. </a:t>
            </a:r>
            <a:r>
              <a:rPr b="0" lang="pt-BR" sz="2400" spc="-1" strike="noStrike">
                <a:solidFill>
                  <a:srgbClr val="0000cc"/>
                </a:solidFill>
                <a:latin typeface="Bookman Old Style"/>
                <a:ea typeface="Times New Roman"/>
              </a:rPr>
              <a:t>Os investimentos realizados e os serviços contratados deverão ser pagos, exclusivamente, com parte da economia gerada pela eficiência do consumo energético.</a:t>
            </a:r>
            <a:r>
              <a:rPr b="1" lang="pt-BR" sz="2400" spc="-1" strike="noStrike">
                <a:solidFill>
                  <a:srgbClr val="0000cc"/>
                </a:solidFill>
                <a:latin typeface="Bookman Old Style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Bookman Old Style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“</a:t>
            </a:r>
            <a:r>
              <a:rPr b="1" lang="pt-BR" sz="2400" spc="-1" strike="noStrike">
                <a:solidFill>
                  <a:srgbClr val="0000cc"/>
                </a:solidFill>
                <a:latin typeface="Bookman Old Style"/>
              </a:rPr>
              <a:t>art. 5o</a:t>
            </a:r>
            <a:r>
              <a:rPr b="0" lang="pt-BR" sz="2400" spc="-1" strike="noStrike">
                <a:solidFill>
                  <a:srgbClr val="0000cc"/>
                </a:solidFill>
                <a:latin typeface="Bookman Old Style"/>
              </a:rPr>
              <a:t>. </a:t>
            </a:r>
            <a:r>
              <a:rPr b="0" lang="pt-BR" sz="2400" spc="-1" strike="noStrike">
                <a:solidFill>
                  <a:srgbClr val="0000cc"/>
                </a:solidFill>
                <a:latin typeface="Bookman Old Style"/>
                <a:ea typeface="Times New Roman"/>
              </a:rPr>
              <a:t>Fica a Agencia Nacional de Energia – ANEEL incumbida de regulamentar os procedimentos necessários à operacionalização do disposto neste artigo, no prazo de trinta dias, contado a partir da publicação deste Decreto.</a:t>
            </a:r>
            <a:r>
              <a:rPr b="1" lang="pt-BR" sz="2400" spc="-1" strike="noStrike">
                <a:solidFill>
                  <a:srgbClr val="0000cc"/>
                </a:solidFill>
                <a:latin typeface="Bookman Old Style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7T01:57:09Z</dcterms:created>
  <dc:creator>Warfield </dc:creator>
  <dc:description/>
  <dc:language>en-US</dc:language>
  <cp:lastModifiedBy>Warfield </cp:lastModifiedBy>
  <dcterms:modified xsi:type="dcterms:W3CDTF">2002-04-30T17:03:06Z</dcterms:modified>
  <cp:revision>37</cp:revision>
  <dc:subject/>
  <dc:title>WORKSHOP ESCO </dc:title>
</cp:coreProperties>
</file>