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88F-C3A1-4485-98ED-4A2C143D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239-2B5D-44DA-B199-9FBC45C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3E5-247B-49E7-A407-42F9557F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150-735E-4B0B-A322-7D1D3A9A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752-2D8B-48B7-807A-8061630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281-72FE-4001-BD90-4F054854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51E-9271-49E1-A385-D696A56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552-E0A3-48F8-B3E3-B44C477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26B-897E-488A-A388-8EDAD98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CEB-F9D4-46AB-B4B3-E91FE46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C8C-3956-4BF8-9CC5-76327A8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0FA-B43B-4E5A-832D-8DE48DF5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5248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52388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CAC8-D01D-4BB0-9ED5-1EA1E317BD6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6191280"/>
          <a:ext cx="18194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191280"/>
                    <a:ext cx="1819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Workshop</a:t>
            </a:r>
            <a:br>
              <a:rPr sz="35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trizes para Licitação de Serviços de Eficientização Energética em Prédios Públ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002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rasília, 30 de Abril de 20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৷ͬ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240048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-37620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457200"/>
          <a:ext cx="26478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"/>
                    <a:ext cx="2647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800" y="66744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৷ͬ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2086200" cy="885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14320" y="4113000"/>
            <a:ext cx="58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rcado para Eficientização Energé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n Ramon Rib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684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stimativa de Participação no Consum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2743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286000"/>
            <a:ext cx="6296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tor Público    545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Wh/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 Público Federal  40%  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2180 GWh/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 300 milhões de Reais à tarifas atu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140 R$/Mw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660960"/>
            <a:ext cx="85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istribuição da destinação dos Prédios Públicos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872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64771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nte:Sistema de Cadastramento de Próprios Nacionais - MPlan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660960"/>
            <a:ext cx="85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istribuição Regional dos Prédios Públicos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2209680"/>
          <a:ext cx="7864560" cy="3416400"/>
        </p:xfrm>
        <a:graphic>
          <a:graphicData uri="http://schemas.openxmlformats.org/drawingml/2006/table">
            <a:tbl>
              <a:tblPr/>
              <a:tblGrid>
                <a:gridCol w="523800"/>
                <a:gridCol w="525600"/>
                <a:gridCol w="523800"/>
                <a:gridCol w="523800"/>
                <a:gridCol w="523800"/>
                <a:gridCol w="525600"/>
                <a:gridCol w="523800"/>
                <a:gridCol w="523800"/>
                <a:gridCol w="524160"/>
                <a:gridCol w="525240"/>
                <a:gridCol w="524160"/>
                <a:gridCol w="523800"/>
                <a:gridCol w="523800"/>
                <a:gridCol w="525600"/>
                <a:gridCol w="523800"/>
              </a:tblGrid>
              <a:tr h="276480"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entro O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20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Arial Unicode MS"/>
                          <a:ea typeface="Times New Roman"/>
                        </a:rPr>
                        <a:t>1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660960"/>
            <a:ext cx="85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istribuição Regional dos Prédios Públicos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2895480"/>
          <a:ext cx="7543800" cy="2075040"/>
        </p:xfrm>
        <a:graphic>
          <a:graphicData uri="http://schemas.openxmlformats.org/drawingml/2006/table">
            <a:tbl>
              <a:tblPr/>
              <a:tblGrid>
                <a:gridCol w="16002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IFIC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 Potencial Interess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ais </a:t>
                      </a:r>
                      <a:r>
                        <a:rPr b="0" lang="pt-BR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7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óp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jeções com Base no BE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tencial de Economia de Energia El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umo de Energia Elétrica por Setores - EL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ção da Destinação dos Prédios Públ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ção Regional dos Prédios Públicos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9320" y="684720"/>
            <a:ext cx="71784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antamento de dados a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acterização Metodoló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liação das condições de Simul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aboração de cálcu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liação dos Resul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9320" y="464760"/>
            <a:ext cx="7178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jeções com Base no BE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7391520" cy="13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Consumo de Energia Elétrica por Setores 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BEN/2000 Ktep - Balanço de Energia Útil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209680"/>
          <a:ext cx="7772400" cy="3352680"/>
        </p:xfrm>
        <a:graphic>
          <a:graphicData uri="http://schemas.openxmlformats.org/drawingml/2006/table">
            <a:tbl>
              <a:tblPr/>
              <a:tblGrid>
                <a:gridCol w="1447920"/>
                <a:gridCol w="914400"/>
                <a:gridCol w="990720"/>
                <a:gridCol w="914400"/>
                <a:gridCol w="914400"/>
                <a:gridCol w="914400"/>
                <a:gridCol w="785520"/>
                <a:gridCol w="890640"/>
              </a:tblGrid>
              <a:tr h="77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et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orça Motr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alor de Proces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quec. Dir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lu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letro-quím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utr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9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68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83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5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9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sid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68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456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5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5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3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41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4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5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2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2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43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gropecuá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28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18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4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3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7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nergé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34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nspor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92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544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0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974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5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7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4824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f3da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914400" y="5791320"/>
            <a:ext cx="784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alor de Processo - Aplicação no aquecimento sem armazenamento - como chuveiro 100%      eficiê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Aquecimento Direto – Aplicação em produtos como cozimento e for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503360"/>
            <a:ext cx="8076960" cy="535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20120" y="5867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9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55760"/>
            <a:ext cx="859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Consumo de Energia Elétrica por Setores 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BEN/2000 Kte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660960"/>
            <a:ext cx="85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Consumo de Energia Elétrica por Setores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(GWh/ano)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11273" r="0" b="1253"/>
          <a:stretch/>
        </p:blipFill>
        <p:spPr>
          <a:xfrm>
            <a:off x="1066680" y="1523880"/>
            <a:ext cx="83059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79440"/>
            <a:ext cx="859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otencial de Economia de Energia Elétrica (GWh/ano)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209680"/>
          <a:ext cx="7848720" cy="3905280"/>
        </p:xfrm>
        <a:graphic>
          <a:graphicData uri="http://schemas.openxmlformats.org/drawingml/2006/table">
            <a:tbl>
              <a:tblPr/>
              <a:tblGrid>
                <a:gridCol w="2254320"/>
                <a:gridCol w="1103400"/>
                <a:gridCol w="1214280"/>
                <a:gridCol w="914400"/>
                <a:gridCol w="990720"/>
                <a:gridCol w="1371600"/>
              </a:tblGrid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ores\Usos Fi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ça Motriz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quec. Dire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u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tro-quí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en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b1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8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15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b0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2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1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opecu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é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10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2035080"/>
            <a:ext cx="6934320" cy="482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379440"/>
            <a:ext cx="859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otencial de Economia de Energia Elétrica (GWh/ano)</a:t>
            </a: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684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Mercado para Eficientização Energética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stimativa de Participação no Consum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2209680"/>
          <a:ext cx="6705360" cy="2819160"/>
        </p:xfrm>
        <a:graphic>
          <a:graphicData uri="http://schemas.openxmlformats.org/drawingml/2006/table">
            <a:tbl>
              <a:tblPr/>
              <a:tblGrid>
                <a:gridCol w="2151360"/>
                <a:gridCol w="1887480"/>
                <a:gridCol w="1523520"/>
                <a:gridCol w="1143000"/>
              </a:tblGrid>
              <a:tr h="469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Esferas Adminis-tr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% do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Ref. litera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Light R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C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Esta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0" y="441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7T13:37:24Z</dcterms:created>
  <dc:creator>Dan Ramon</dc:creator>
  <dc:description/>
  <dc:language>en-US</dc:language>
  <cp:lastModifiedBy>Dan Ramon</cp:lastModifiedBy>
  <dcterms:modified xsi:type="dcterms:W3CDTF">2002-05-02T19:14:26Z</dcterms:modified>
  <cp:revision>58</cp:revision>
  <dc:subject/>
  <dc:title>Apresentação do PowerPoint</dc:title>
</cp:coreProperties>
</file>