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DAE5-7DC4-4162-B3F9-993EF704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37D5-C139-4113-8351-210E5957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79EB-DCFF-41F8-96F8-FB92A2B1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F50D-92C0-4889-AAA0-2300735F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4279-5C3B-4EDA-A37E-BCC84E54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494-8869-41FC-897F-48BE9CF9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AEC5-1B30-4BED-826D-7F299BE4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B6DC-537F-470D-8FF1-8967B698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EFE3-66C4-4517-9772-9436B40E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ED4F-0FB6-4C99-AE1C-3B9F55E0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E2B1-6706-4D2E-B67A-101B880E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9B85-4447-40D4-A7B9-2D287240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FB21-E90F-4BDB-84C1-F4AE9E215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3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৷ͬ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400120" cy="676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9000" y="315324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971800" y="838080"/>
          <a:ext cx="264780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838080"/>
                    <a:ext cx="26478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33520" y="1295280"/>
            <a:ext cx="2092320" cy="873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3800" y="2789280"/>
            <a:ext cx="812844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retrizes para Licitação de Serviços de Eficientização Energética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m Prédi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rasília – 30 de Abril de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Kubitschek Plaza – Salão Ouro Pr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143000" y="5486400"/>
          <a:ext cx="2057400" cy="75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5486400"/>
                    <a:ext cx="205740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6019920" y="5638680"/>
            <a:ext cx="2133360" cy="609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SC Tecnologia e Serviços em Energia LT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19:56:57Z</dcterms:created>
  <dc:creator>Dan Ramon</dc:creator>
  <dc:description/>
  <dc:language>en-US</dc:language>
  <cp:lastModifiedBy>Dan Ramon</cp:lastModifiedBy>
  <dcterms:modified xsi:type="dcterms:W3CDTF">2002-04-29T20:02:23Z</dcterms:modified>
  <cp:revision>1</cp:revision>
  <dc:subject/>
  <dc:title>Slide 1</dc:title>
</cp:coreProperties>
</file>