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19840" indent="-19980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799920" indent="-15984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119960" indent="-15984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440000" indent="-15984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440000" indent="-15984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440000" indent="-15984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45260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FICIÊNCIA ENERGÉTICA EM PRÉDIOS PÚBLICOS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09160" y="3217680"/>
            <a:ext cx="7317000" cy="36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CONTRATAÇÃO DE ESCOs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ynaldo Sigilião da Costa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30/04/2002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- Medição e Verificaçã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lvl="1" marL="601560" indent="-231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Importância dos Valores de Consumo Referênci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1560" indent="-231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 opções de Medição e Verific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álculos/ Estimativas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dições   : Pontuais e/ou globais , Esporádicas ou Frequentes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binações delas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601560" indent="-231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justes de Base Li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rocas de condição de operação (taxa de ocupação)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rocas de performance dos equipamentos ( ESCO responsável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roca de condições climáticas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666440" indent="-18504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77560" indent="-2775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- Medição e Verificaçã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curar manter simples ( cust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pendendo da complexidade necessidade de entidade independen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lexidade  dependente do tipo de contrato 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- Medição e Verificaçã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lvl="1" marL="660960" indent="-2541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pos de Contr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a garantida - Esco da garantia da economi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424160" indent="-20340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 geral ESCO vai realizar operação e manutençã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424160" indent="-20340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ente fica “preso”;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a Compartilhad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424160" indent="-20340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efícios compartilhados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424160" indent="-20340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de parar a nível de instalação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424160" indent="-20340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dição e Verificação mais importante, e deve ser acordada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4" marL="1830960" indent="-2034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4" marL="1830960" indent="-20340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xemplo de Fluxograma para Implementação de Eficiência Energética em Prédios Público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523880"/>
            <a:ext cx="83844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ROCE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25720" y="1523880"/>
            <a:ext cx="99072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GÊNC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1523880"/>
            <a:ext cx="76212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SC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1433520"/>
            <a:ext cx="1447560" cy="4590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ONSULTOR INDEPENDENT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1337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438280"/>
            <a:ext cx="137160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Coleta de Informações dos Prédio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657600"/>
            <a:ext cx="137160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scolha de agências e Prédios com maior potencia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029200"/>
            <a:ext cx="1371600" cy="10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Treinamento para as agências relativo ao processo de licitação e escolha da ESC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5029200"/>
            <a:ext cx="137160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Acordo com a agênc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25780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562720"/>
            <a:ext cx="0" cy="99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57200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124080"/>
            <a:ext cx="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xemplo de Fluxograma para Implementação de Eficiência Energética em Prédios Público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523880"/>
            <a:ext cx="83844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ROCE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25720" y="1523880"/>
            <a:ext cx="99072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GÊNC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7040" y="1523880"/>
            <a:ext cx="76212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SC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21560" y="1433520"/>
            <a:ext cx="1447560" cy="4590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ONSULTOR INDEPENDENT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1337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38280"/>
            <a:ext cx="13716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Contratação e realização de pré-diagnóstico, visando obter os dados necessários para homogeneizar licitaçã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343400"/>
            <a:ext cx="137160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ntrega de pacote para realização da licitação para a agênc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343400"/>
            <a:ext cx="137160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Realização da licitaçã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64832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388620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209680"/>
            <a:ext cx="0" cy="609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09320" y="2819520"/>
            <a:ext cx="11430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257800"/>
            <a:ext cx="1371600" cy="10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Análise das propostas e escolha da empresa de serviços (ESCO) vencedor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5181480"/>
            <a:ext cx="1371600" cy="11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SCO realiza diagnóstico detalhado para confirmar energia economizada esperad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594360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6400800"/>
            <a:ext cx="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xemplo de Fluxograma para Implementação de Eficiência Energética em Prédios Público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523880"/>
            <a:ext cx="83844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ROCE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5720" y="1523880"/>
            <a:ext cx="99072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GÊNC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7040" y="1523880"/>
            <a:ext cx="762120" cy="276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SC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21560" y="1433520"/>
            <a:ext cx="1447560" cy="4590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ONSULTOR INDEPENDENTE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133720"/>
            <a:ext cx="8229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600200"/>
            <a:ext cx="0" cy="5029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2514600"/>
            <a:ext cx="137160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Assinatura do contrato de desempenho com a Agênc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13372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4290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3809880"/>
            <a:ext cx="137160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SCO implementa o projet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191120" y="40384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505320"/>
            <a:ext cx="137160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Agência contrata entidade para  MV, caso necessário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4197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876920"/>
            <a:ext cx="1371600" cy="1736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Caso a agência não tenha recursos, a ESCO contrata consultor independente desde que este seja previamente aprovado pelo PROCE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09320" y="5715000"/>
            <a:ext cx="381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4120"/>
            <a:ext cx="1371600" cy="10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PROCEL realiza acompanhamento macro do consumo e divulga resultado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5486400"/>
            <a:ext cx="13716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Realiza MV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0"/>
            <a:ext cx="6640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lvl="1" marL="572040" indent="-2199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ama de Eficiência Energética em Prédios Públicos importante para acelerar implantação de medidas de eficiência energética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79840" indent="-1756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i importante para mercado de ESCOs nos USA e Canadá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572040" indent="-2199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ão envolve investimentos de recursos do governo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72040" indent="-2199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ria emprego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72040" indent="-2199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ate Desperdício e economiza energi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72040" indent="-2199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e trabalho que pode ser feito, enquanto barreiras legais estão sendo equacionadas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72040" indent="-219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4" marL="1584000" indent="-17568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040" y="0"/>
            <a:ext cx="6640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olidar / validar documentos proposto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71280" indent="-194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delo do Edital de Licitaçã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360080" indent="-1940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itério de pontuaçã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360080" indent="-1940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o em dois passos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360080" indent="-1940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ível de detelhamento técnico dos prédio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360080" indent="-1940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971280" indent="-1940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delo de contrato ( Tipo)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plementação de um projeto - diretrizes e documentos propostos para licit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4" marL="1748520" indent="-19404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0"/>
            <a:ext cx="6640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pt-BR" sz="3600" spc="-1" strike="noStrike">
                <a:solidFill>
                  <a:srgbClr val="000099"/>
                </a:solidFill>
                <a:latin typeface="Times New Roman"/>
              </a:rPr>
              <a:t>Contratação de ESCOs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- Principais Passo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leção do prédio/órgao, Início de Licitação, Processo de Escolha da vencedora, Assinatura de Contrato, Medição e Verificação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- O processo de licitação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- Análise das propostas para escolha da ES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- Medição e Verificação / Contratos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5-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Fluxograma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implementação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 X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tores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envolvidos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- Principais Pass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leção do prédio/órga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085760" indent="-217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l coletando informações sobre prédios 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085760" indent="-217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085760" indent="-217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colha do orgão público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19920" indent="-217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ciativa própria do órgã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19920" indent="-217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leção de acordo com informações obtida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19920" indent="-217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85760" indent="-21708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ferentes critério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19920" indent="-21708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mplo : Tamanho da conta de energia;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- Principais Pass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cesso de Licit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097280" indent="-2192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ocumentos Referência para Licitaçã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36120" indent="-2192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delo do Edita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36120" indent="-2192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po e volume de Informação necessárias do prédio;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36120" indent="-2192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o de Escolha da ESC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36120" indent="-219240">
              <a:lnSpc>
                <a:spcPct val="15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delo de Contrato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36120" indent="-2192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97280" indent="-21924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reinamento de agentes (Procel)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097280" indent="-2192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- Principais Pass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lvl="2" marL="1051560" indent="-2102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ício da Licitação propriamente di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alise da ESCO vencedor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inatura do Contr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83280" indent="-2628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edição e Verific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0"/>
            <a:ext cx="71773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- O processo em dois passo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lvl="1" marL="512640" indent="-19692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 Processo de Seleção em dois passos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 todas as ESCOs fazem diagnóstico detalhado para confecção da proposta, processo torna-se caro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ma alternativa : Licitação em dois passo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512640" indent="-196920">
              <a:lnSpc>
                <a:spcPct val="15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ção da proposta ( Pré-diagnóstic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CO prepara proposta com dados técnicos do edital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em acesso ao prédio para tirar suas dúvidas e fazer o diagnóstico no nível que achar conveniente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512640" indent="-196920">
              <a:lnSpc>
                <a:spcPct val="15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12640" indent="-196920">
              <a:lnSpc>
                <a:spcPct val="15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040" y="0"/>
            <a:ext cx="71773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- </a:t>
            </a: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- O processo em dois passo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lvl="1" marL="609120" indent="-2343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ESCO vencedora tem oportunidade para realizar diagnóstico detalhado antes da assinatura do contrato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o ESCO confirme resultados da proposta dentro de limite pré-estabelecido, então assinatura de contrato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o contrário , orgão público pode escolher próxima ESCO melhor classificada da lista 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9120" indent="-234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- Análise da proposta  vencedo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317600"/>
            <a:ext cx="90378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lvl="1" marL="564480" indent="-217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cessidade de mecanismos claros de pontu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Qualificação Técnica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álise da experiência da empresa/equip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álise da Proposta técnic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lnSpc>
                <a:spcPct val="15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Análise Comerci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rando diferentes proposta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postas podem não ser homogênea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efícios de  economia de energi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ros benefícios devem ser considerado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4" marL="15634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vestimento em novos equipamento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4" marL="15634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ção e Manutençã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4" marL="1563480" indent="-17352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33480" y="1515960"/>
            <a:ext cx="691668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040" y="0"/>
            <a:ext cx="66405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Eficiência Energética em P.P.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- Análise da proposta  vencedo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19120"/>
            <a:ext cx="9037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alise da proposta Comerci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álise dos benefícios em valor presen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emplo de índic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Benefício Financeiro advindo da economia de energia obtid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720000" indent="-14400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BFC1 – Durante a vigência do Contrato ( 50 ptos 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720000" indent="-14400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BFC2- Após a vigência por um período máximo de 5 anos (20 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Benefício Financeiro Advindo de Investimento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lnSpc>
                <a:spcPct val="15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Benefício Financeiro Advindo de Manutenção/Op. 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16000" indent="-216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16000" indent="-216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008000" indent="-1440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4" marL="1296000" indent="-144000">
              <a:lnSpc>
                <a:spcPct val="15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216000" indent="-216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2:27:36Z</dcterms:created>
  <dc:creator>aaa</dc:creator>
  <dc:description/>
  <dc:language>en-US</dc:language>
  <cp:lastModifiedBy>Warfield </cp:lastModifiedBy>
  <cp:lastPrinted>1999-03-31T02:11:10Z</cp:lastPrinted>
  <dcterms:modified xsi:type="dcterms:W3CDTF">2002-04-30T14:22:08Z</dcterms:modified>
  <cp:revision>340</cp:revision>
  <dc:subject/>
  <dc:title>Motor de indução trifásico (MIT)</dc:title>
</cp:coreProperties>
</file>