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6A52-945B-4184-9813-631676C0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AD7A-3989-420B-9DF9-54E82229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492-4667-4D25-84A0-9DDA32BF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D1A0-DDEA-48F5-81DC-9E40508B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D0F4-EF0A-44FC-987B-5AB2BDC9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7F92-BAE6-479D-B68E-9A40B038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E5D7-2189-476D-80FC-3160AE4B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2D6C-DA77-452D-8EB0-8ABEF67F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1BD9-4ED5-492E-B157-1CBC1B1A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17680" y="631080"/>
            <a:ext cx="859608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05F7-0C2C-404A-B82F-B152D896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96D6-7696-4005-8282-1A478E65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1D1-854F-4BE7-B4AB-FC3E53C9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8E8A-11EB-435F-8812-C68D1458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E8C3-5989-4A32-95FF-238CA8F2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D101-2A22-4BF5-ADF0-CB846E3B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173A-4D9A-400E-8E4C-F0EA0855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684E-C7B6-4303-840D-1B9C5FDD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1D48-F46E-44EA-A279-53B25418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DF1B-C205-4AE7-881E-78EA9021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28B-3594-4EDD-B553-2929D61C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17680" y="631080"/>
            <a:ext cx="859608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FE36-0F97-4EDA-87C7-6619E77B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76B-C01B-47A4-97D0-448E8236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5959-8B28-4260-97B0-05BB28DD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EF40-859C-4DFC-A70A-19CBDD20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3760" y="176364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4FB0-4177-42DD-919D-0ECE8F8C0C9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990720" y="6324480"/>
          <a:ext cx="2009520" cy="370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90720" y="6324480"/>
                    <a:ext cx="200952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7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381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6F8A-094E-4865-9641-F8BC7CB4F56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75068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ergy Efficiency in Public Buildings in Brazil – Guidelines for Implemen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and Subbiah, Nexant In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ril 30, 2002, Kubitschek Plaza Hotel, Brasilia, Braz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7680" y="387360"/>
            <a:ext cx="859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ation Steps – Proposal Eval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447920" y="2666880"/>
            <a:ext cx="6781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osed Implementation Setu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86000" y="1295280"/>
            <a:ext cx="39736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verview of FEMP Program in U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 Program to promote energy efficiency in federal build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ual budget of $25 mill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ual Federal Energy Bill - $4 bill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vings achieved – 20% per square foo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rget – 30% by 200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ation Steps – Preliminary Aud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liminary identification of potential for improvement in buildings energy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itation to for preliminary energy aud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sals based on preliminary aud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imated baseline energy consump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nual estimated cost savings over life of pro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nual guaranteed cost savings over life of pro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nual contractor pay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deral agency share of cost savi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imated invest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ation Steps – Detailed Aud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ptance of preliminary proposal and invitation for detailed energy aud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paration of Statement of Work/Request for Propos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cility performance requirements – lighting standards, HVAV standards, et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lect ESCO(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te Vis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tailed facility energy aud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ation Steps – Detailed Aud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ailed Audit Re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sure Descrip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firmation of preliminary audit finding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visions to Energy Consumption Baseline, Cost Savings, Guaranteed Savings, and Investment Pl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nitoring and Verification Pl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seline confi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ification of saving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dentification of variables – operating hou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nual energy audit for verification of saving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ation Steps – Detailed Aud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ailed Audit Re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eration and Maintenance Pl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CO/Contractor r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deral agency r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lacement of equip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ining for Building Personn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yment Pl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nual amortized payment for investments + prof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nual payment for O&amp;M + prof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nual federal agency share of cost saving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nciliation of payments based on M&amp;V and annual aud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7680" y="631080"/>
            <a:ext cx="85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ation Steps – Detailed Aud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ailed Audit Re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ancing Pl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CO/Contractor financ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party financ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agement Approa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agement tea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ject staff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lifications, skill, experie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hedule for implement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st Performance and Project Experi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7680" y="387360"/>
            <a:ext cx="859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ation Steps – Proposal Eval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sal Evaluation Fact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basel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aving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&amp;M pl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&amp;V pl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nual audit for verif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7680" y="387360"/>
            <a:ext cx="859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ation Steps – Proposal Eval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sal Evaluation Fact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agement organiz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les and responsibilit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lification and experience of personn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lity control measu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st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ject experie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any qualif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17680" y="387360"/>
            <a:ext cx="859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ation Steps – Proposal Eval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sal Evaluation Fact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 Propos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formance Risk Assess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ce Real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st Overall Val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17:37:36Z</dcterms:created>
  <dc:creator>asubbiah</dc:creator>
  <dc:description/>
  <dc:language>en-US</dc:language>
  <cp:lastModifiedBy>asubbiah</cp:lastModifiedBy>
  <dcterms:modified xsi:type="dcterms:W3CDTF">2002-04-30T11:44:34Z</dcterms:modified>
  <cp:revision>16</cp:revision>
  <dc:subject/>
  <dc:title>Energy Efficiency in Public Buildings in Brazil – Guidelines for Implementation</dc:title>
</cp:coreProperties>
</file>